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587-4BCC-46A8-9A92-7B1F0375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80B-7177-40AE-A4B4-B448F7C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D8F-8069-4B6E-B7E6-11D401EA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9F7-7CD7-43D0-8D17-55B8162A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9BC-527E-49C6-A910-E836707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783-DD9C-4FFC-8F8C-A5B404C1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B7D-178A-4251-945D-3DC9154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F99-60FF-4878-A98A-D2C4FB9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88E-26AC-4B05-A80F-7F13D39D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B67-0059-42BA-B7E3-C582CB0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591-04A2-4EBB-96F3-C0D51E7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EAC-DF52-48DA-94AC-1AE6831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6A2F-8CC5-419B-ACE6-D93E877A4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pcontent.answcdn.com/wikipedia/en/thumb/3/3f/MostlyMartha.jpg/220px-MostlyMartha.jpg"/>
          <p:cNvPicPr/>
          <p:nvPr/>
        </p:nvPicPr>
        <p:blipFill>
          <a:blip r:embed="rId1"/>
          <a:stretch/>
        </p:blipFill>
        <p:spPr>
          <a:xfrm>
            <a:off x="1371600" y="0"/>
            <a:ext cx="4343400" cy="6435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943600" y="38088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fgab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reibt ein Paragraf über dieses Bild (mindestens 30 Wörter).  Was passiert in diesem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eitsblatt (Nach dem Abendes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rum konnte Martha nicht gut atmen (breathe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ist schnell gelauf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e Küche war zu schmutz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hat schlechtes Essen gegess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rum hat Martha Lina vergess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war mit mit der Hilfsköchin im Krankenha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musste arbeit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hat Lina nicht vergess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s hat Lina weggeschmiss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inen Fis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.  Spaghett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. Truff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rum meint die Chefin, dass Lina nicht mehr dabei bei der Arbeit is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tha kann nicht mehr gut konzentrier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spielt zu viel mit dem Ess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soll mit anderen Kinder sein und sie geht zu spat ins Be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 hat das Abendessen geplan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th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eibt “als” Nebensätze (clauses) über Marthas Leben. (mindestens 45 Wörter auf Deut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Martha allein war, war sie…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sie mit Lina war, war si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sie mit Mario war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Mario, Martha und Lina zusammen waren,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pcontent.answcdn.com/wikipedia/en/thumb/3/3f/MostlyMartha.jpg/220px-MostlyMartha.jpg"/>
          <p:cNvPicPr/>
          <p:nvPr/>
        </p:nvPicPr>
        <p:blipFill>
          <a:blip r:embed="rId1"/>
          <a:stretch/>
        </p:blipFill>
        <p:spPr>
          <a:xfrm>
            <a:off x="533520" y="0"/>
            <a:ext cx="3581280" cy="530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artsandentertainmentplayground.com/wp-content/uploads/2011/04/no-reservations.jpg"/>
          <p:cNvPicPr/>
          <p:nvPr/>
        </p:nvPicPr>
        <p:blipFill>
          <a:blip r:embed="rId2"/>
          <a:stretch/>
        </p:blipFill>
        <p:spPr>
          <a:xfrm>
            <a:off x="4876920" y="0"/>
            <a:ext cx="334332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62120" y="5486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fgabe 2:  Vergleich diese Bilder.  Was ist ähnlich?  Was ist verschieden?  Benutz entweder Liste (ähnlich/verschieden) oder benutzt ein Venn-Diagram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3:  Vorstel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ährend der Musik am Anfang des Filmes   (Vorstellung) sehen wir vielen Kuchengeräte und Vokabeln Wörter.  Schreib mindesten 8 (aber wenn du extra schreibst, bekommst du extra Punkt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reib Martha.  Was für eine Person ist sie?  Was ist dein Eindruck (impression)  30 Wört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ntworte die Frage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. Fra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Martha spricht mit ihrem Therapeuten normalerweise ü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Ess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Ihre emotionalen Proble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Beziehungen [=relationship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er will, dass Martha zu dem Therapeuten ge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Marth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Marthas Famili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Marthas Chef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Weiß Martha, was ihr Problem 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as ist das Problem mit der Foie Gr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Zu ro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Zu trock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Zu fet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Zu französis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rtha sagt, ein guter Koch kan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komplizierte Gerichte [=dishes] gut koc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einfache Gerichte gut ko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 ist am Telef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ist passie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reib Marthas Laune (moo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 Wörter auf Deutsc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eib auf Englis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the following symboli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b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frig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reib Martha und Arbeiten mit Martha von Marios Perspecti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 Wö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gab eine bestimmt Atmosphäre in Restaurant wenn Martha da ist.  Wie ist die Ätmosphäre in dem Restaurant anders wenn Mario da ist?  (30 Wör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nn Marta in dem Restaurant ist, ist die Atmosphäre…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8:58:31Z</dcterms:created>
  <dc:creator>ahart</dc:creator>
  <dc:description/>
  <dc:language>en-US</dc:language>
  <cp:lastModifiedBy>Alissa</cp:lastModifiedBy>
  <dcterms:modified xsi:type="dcterms:W3CDTF">2013-04-28T20:01:35Z</dcterms:modified>
  <cp:revision>28</cp:revision>
  <dc:subject/>
  <dc:title>Slide 1</dc:title>
</cp:coreProperties>
</file>